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772400" cy="10026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3035160" y="1963800"/>
            <a:ext cx="45658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(CE)"/>
              </a:rPr>
              <a:t>XAPool 1.2.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633800" y="6816600"/>
            <a:ext cx="170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1st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963800" y="4479840"/>
            <a:ext cx="67834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xapool.experlog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forge.objectweb.org/projects/xa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ail: xapool-public at lists.debian-sf.objectweb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avier.Spengler@experlog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485880" y="3021120"/>
            <a:ext cx="335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APool is Another Pool 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experlogo" descr=""/>
          <p:cNvPicPr/>
          <p:nvPr/>
        </p:nvPicPr>
        <p:blipFill>
          <a:blip r:embed="rId1"/>
          <a:stretch/>
        </p:blipFill>
        <p:spPr>
          <a:xfrm>
            <a:off x="3962520" y="457200"/>
            <a:ext cx="20667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68360" y="1279440"/>
            <a:ext cx="8004240" cy="60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XAConnection Factory: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e XAData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tandardXAPoolDataSource[1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is object is able to build XAConnection objects and to store them into the p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is object extends javax.sql.DataSource to use common getConnection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create and close (expire) methods are specific for each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 TransactionManager[2] (JOTM) is used to enlist and delist XAResource[3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[1] org.enhydra.jdbc.pool.StandardXAPoolData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[2] javax.transaction.Transaction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[3] javax.transaction.xa.XA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68200" y="223920"/>
            <a:ext cx="935280" cy="904680"/>
            <a:chOff x="268200" y="223920"/>
            <a:chExt cx="935280" cy="904680"/>
          </a:xfrm>
        </p:grpSpPr>
        <p:sp>
          <p:nvSpPr>
            <p:cNvPr id="114" name=""/>
            <p:cNvSpPr/>
            <p:nvPr/>
          </p:nvSpPr>
          <p:spPr>
            <a:xfrm>
              <a:off x="268200" y="223920"/>
              <a:ext cx="935280" cy="904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8200" y="493200"/>
              <a:ext cx="93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323dc"/>
                  </a:solidFill>
                  <a:latin typeface="Times New Roman"/>
                </a:rPr>
                <a:t>X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303720" y="387360"/>
            <a:ext cx="4565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(CE)"/>
              </a:rPr>
              <a:t>XA DataSour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85760" y="1459080"/>
            <a:ext cx="858528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AConnection a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XAResourc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implementation of XAConnection implements XAResource[1] interf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ssociation between Transaction and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 methods of XAResource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mmit, rollback, prepare (with a specific Xid[2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art, end, forget (with a specific X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d = « X id » or « transaction id », given by the Transaction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] java mapping of the industry standardXA interface based on the X/Open CAE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] javax.transaction.xa.X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68200" y="223920"/>
            <a:ext cx="935280" cy="904680"/>
            <a:chOff x="268200" y="223920"/>
            <a:chExt cx="935280" cy="904680"/>
          </a:xfrm>
        </p:grpSpPr>
        <p:sp>
          <p:nvSpPr>
            <p:cNvPr id="119" name=""/>
            <p:cNvSpPr/>
            <p:nvPr/>
          </p:nvSpPr>
          <p:spPr>
            <a:xfrm>
              <a:off x="268200" y="223920"/>
              <a:ext cx="935280" cy="904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8200" y="493200"/>
              <a:ext cx="93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323dc"/>
                  </a:solidFill>
                  <a:latin typeface="Times New Roman"/>
                </a:rPr>
                <a:t>X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03720" y="387360"/>
            <a:ext cx="4565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(CE)"/>
              </a:rPr>
              <a:t>XAResour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65400" y="2038320"/>
            <a:ext cx="8277120" cy="35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XA)PrepareStatement[1] and (XA)Statement[2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se 2 implementations are wrappers to core implemen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se objects are used to enlist resources ONLY when connections are use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mplement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che of Prepared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] java.sql.Prepare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] java.sql.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8200" y="223920"/>
            <a:ext cx="935280" cy="904680"/>
            <a:chOff x="268200" y="223920"/>
            <a:chExt cx="935280" cy="904680"/>
          </a:xfrm>
        </p:grpSpPr>
        <p:sp>
          <p:nvSpPr>
            <p:cNvPr id="124" name=""/>
            <p:cNvSpPr/>
            <p:nvPr/>
          </p:nvSpPr>
          <p:spPr>
            <a:xfrm>
              <a:off x="268200" y="223920"/>
              <a:ext cx="935280" cy="904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8200" y="493200"/>
              <a:ext cx="93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323dc"/>
                  </a:solidFill>
                  <a:latin typeface="Times New Roman"/>
                </a:rPr>
                <a:t>X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303720" y="387360"/>
            <a:ext cx="4565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(CE)"/>
              </a:rPr>
              <a:t>XA State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95280" y="1905120"/>
            <a:ext cx="736452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fic development for Datab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ac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pecial wrapper to XAConnection and XADataSource objects from Oracle driver (jdbc2.0 driver) exists to pool these conn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ormix, Syb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ial wrappers have been done to hack some functi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stantDB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pecial wrapper has been done to support a full JDBC XA 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tgreSQL, MySQL, SAPdb, HSQL,...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works a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68200" y="223920"/>
            <a:ext cx="935280" cy="904680"/>
            <a:chOff x="268200" y="223920"/>
            <a:chExt cx="935280" cy="904680"/>
          </a:xfrm>
        </p:grpSpPr>
        <p:sp>
          <p:nvSpPr>
            <p:cNvPr id="129" name=""/>
            <p:cNvSpPr/>
            <p:nvPr/>
          </p:nvSpPr>
          <p:spPr>
            <a:xfrm>
              <a:off x="268200" y="223920"/>
              <a:ext cx="935280" cy="904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8200" y="493200"/>
              <a:ext cx="93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323dc"/>
                  </a:solidFill>
                  <a:latin typeface="Times New Roman"/>
                </a:rPr>
                <a:t>X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303720" y="387360"/>
            <a:ext cx="4565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(CE)"/>
              </a:rPr>
              <a:t>DB wrapp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79440" y="2098800"/>
            <a:ext cx="816768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ternals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jotm.jar: Transaction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commons_logging.jar and log4j.jar: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rmiregistry: JNDI, to bind and lookup transaction, XADataSource and XAPoolData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other useful libs: carol.jar, idb.jar, jonas_timer.jar, jotm_jrmp_stubs.jar, jta-spec1_0_1.jar, p6spy.ja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03720" y="387360"/>
            <a:ext cx="4565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(CE)"/>
              </a:rPr>
              <a:t>External li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75480" y="1547640"/>
            <a:ext cx="774432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 I can find Success St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ExperSHOP: Experlog’s product  embeds XAPool since 2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PooledConnection pa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JOTM: uses XAPool as XA Pool Data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JettyPlus[1]: XAPool and JOTM are integrated into JettyPl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MortBa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wnloa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y: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ne: 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 n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XAPool works with C-JDBC for database clus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[1] http://jetty.mortbay.org/jetty/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03720" y="387360"/>
            <a:ext cx="4565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(CE)"/>
              </a:rPr>
              <a:t>Success stor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609480"/>
            <a:ext cx="960120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/ create an XA pool datasource with a minimum of 4 ob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ndardXAPoolDataSource spds = new StandardXAPoolDataSource(4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ds.setUser(login);   spds.setPassword(passwor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tm jotm = new Jotm(true, fals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pds.setTransactionManager(jotm.getTransactionManager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/ create an XA datasource which will be given to the XA p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ndardXADataSource xads = new StandardXADataSource(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y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ads.setDriverName(driver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ads.setUrl(url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ads.setUser(login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ads.setPassword(passwor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 catch (Exception e) { System.err.println("JOTM problem.");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/ give the XA datasource to the pool (to create future o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pds.setDataSource(xads)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457200"/>
            <a:ext cx="9077040" cy="65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nection conn = spds.getConnection(login, password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Transaction utx = jotm.getUserTransaction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tx.begin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paredStatement pstmt0 = conn.prepareStatement(SQL_QUERY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stmt0.setInt(1, 13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stmt0.executeUpdat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tx.commit(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tx.begin(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paredStatement pstmt = conn.prepareStatement(SQL_QUERY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stmt.setInt(1, 1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stmt.executeUpdat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tx.rollback(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 catch (Exception e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.err.println("Exceptio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n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1447920"/>
            <a:ext cx="708336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Reusable Generic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Fully (100%) compliant to th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Real time instr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Now used in several products (yes, there was a need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be d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reuse of the Generic Pool for other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implementation of Connecto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JOnAS, back to the source 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JMX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03720" y="387360"/>
            <a:ext cx="4565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(CE)"/>
              </a:rPr>
              <a:t>XAPool 1.2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03720" y="387360"/>
            <a:ext cx="4565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(CE)"/>
              </a:rPr>
              <a:t>Hist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77880" y="2470320"/>
            <a:ext cx="64864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t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2000: Lutris asks for a new Database Manager for J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2003: Experlog proposes XAPool as a new Enhydra project to the Objectweb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in the future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c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L: Enhydra Public 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85520" y="1949400"/>
            <a:ext cx="570204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eneric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olDataSource: factory of Pooled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APoolDataSource: factory of XA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cess Stories and N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mpl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52360" y="2322360"/>
            <a:ext cx="1560600" cy="1159200"/>
            <a:chOff x="252360" y="2322360"/>
            <a:chExt cx="1560600" cy="1159200"/>
          </a:xfrm>
        </p:grpSpPr>
        <p:sp>
          <p:nvSpPr>
            <p:cNvPr id="45" name=""/>
            <p:cNvSpPr/>
            <p:nvPr/>
          </p:nvSpPr>
          <p:spPr>
            <a:xfrm>
              <a:off x="252360" y="2322360"/>
              <a:ext cx="1560600" cy="115920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2360" y="2536560"/>
              <a:ext cx="15606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eneri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519200" y="4494240"/>
            <a:ext cx="934920" cy="904680"/>
            <a:chOff x="1519200" y="4494240"/>
            <a:chExt cx="934920" cy="904680"/>
          </a:xfrm>
        </p:grpSpPr>
        <p:sp>
          <p:nvSpPr>
            <p:cNvPr id="48" name=""/>
            <p:cNvSpPr/>
            <p:nvPr/>
          </p:nvSpPr>
          <p:spPr>
            <a:xfrm>
              <a:off x="1519200" y="4494240"/>
              <a:ext cx="934920" cy="904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19200" y="4763520"/>
              <a:ext cx="93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323dc"/>
                  </a:solidFill>
                  <a:latin typeface="Times New Roman"/>
                </a:rPr>
                <a:t>X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303720" y="387360"/>
            <a:ext cx="45655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(CE)"/>
              </a:rPr>
              <a:t>Table of Cont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78040" y="3483000"/>
            <a:ext cx="1485720" cy="817200"/>
            <a:chOff x="878040" y="3483000"/>
            <a:chExt cx="1485720" cy="817200"/>
          </a:xfrm>
        </p:grpSpPr>
        <p:sp>
          <p:nvSpPr>
            <p:cNvPr id="52" name=""/>
            <p:cNvSpPr/>
            <p:nvPr/>
          </p:nvSpPr>
          <p:spPr>
            <a:xfrm>
              <a:off x="878040" y="3483000"/>
              <a:ext cx="1485720" cy="817200"/>
            </a:xfrm>
            <a:prstGeom prst="ellipse">
              <a:avLst/>
            </a:prstGeom>
            <a:solidFill>
              <a:srgbClr val="2323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8040" y="3708360"/>
              <a:ext cx="148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not-X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20800" y="2441520"/>
            <a:ext cx="6145560" cy="35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is XAPoo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APool is a software component which allow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ore objects with a Generic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xport a DataSource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xport a XADataSource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] javax.sql.Data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] javax.sql.XAData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03720" y="387360"/>
            <a:ext cx="4565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(CE)"/>
              </a:rPr>
              <a:t>XAPo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42920" y="1711440"/>
            <a:ext cx="8153640" cy="51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can I store in the Generic Poo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swer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yth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just need to implemen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an interf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give it to the Generic p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this interface, the pool will be able to creat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your obje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ol exports the following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create(s) methods to build your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expire method to destroy properly your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check(s) methods to verify your objects before using them ! (5 levels of object chec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03720" y="387360"/>
            <a:ext cx="4565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(CE)"/>
              </a:rPr>
              <a:t>Generic Po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12840" y="254160"/>
            <a:ext cx="1560240" cy="1159920"/>
            <a:chOff x="312840" y="254160"/>
            <a:chExt cx="1560240" cy="1159920"/>
          </a:xfrm>
        </p:grpSpPr>
        <p:sp>
          <p:nvSpPr>
            <p:cNvPr id="59" name=""/>
            <p:cNvSpPr/>
            <p:nvPr/>
          </p:nvSpPr>
          <p:spPr>
            <a:xfrm>
              <a:off x="312840" y="254160"/>
              <a:ext cx="1560240" cy="115992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2840" y="468000"/>
              <a:ext cx="1560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eneri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2320" y="1935000"/>
            <a:ext cx="774432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ities and properties of the Generic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inimum pool size (and initial number of pooled o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aximum pool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log writer (with commons-logging[1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life time of objects (lifetime in the free objects po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ime to wait until an object (eg. a Connection) i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garbage collector option(run gc upon pool clean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”generation” concept when problems occurs on object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upon error, check all objects of current or previous gener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optional rese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[1] http://jakarta.apache.org/commons/logging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03720" y="387360"/>
            <a:ext cx="4565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(CE)"/>
              </a:rPr>
              <a:t>Generic Pool 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14280" y="254160"/>
            <a:ext cx="1560600" cy="1159920"/>
            <a:chOff x="314280" y="254160"/>
            <a:chExt cx="1560600" cy="1159920"/>
          </a:xfrm>
        </p:grpSpPr>
        <p:sp>
          <p:nvSpPr>
            <p:cNvPr id="64" name=""/>
            <p:cNvSpPr/>
            <p:nvPr/>
          </p:nvSpPr>
          <p:spPr>
            <a:xfrm>
              <a:off x="314280" y="254160"/>
              <a:ext cx="1560600" cy="115992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4280" y="468000"/>
              <a:ext cx="15606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eneri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03560" y="1666800"/>
            <a:ext cx="4014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pools inside the Generic Po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38520" y="2530440"/>
            <a:ext cx="6367320" cy="1231920"/>
          </a:xfrm>
          <a:prstGeom prst="roundRect">
            <a:avLst>
              <a:gd name="adj" fmla="val 125"/>
            </a:avLst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82800" y="5164200"/>
            <a:ext cx="6367680" cy="1262160"/>
          </a:xfrm>
          <a:prstGeom prst="roundRect">
            <a:avLst>
              <a:gd name="adj" fmla="val 125"/>
            </a:avLst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3880" y="2901960"/>
            <a:ext cx="180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ed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9720" y="5670720"/>
            <a:ext cx="157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ed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901960" y="2813040"/>
            <a:ext cx="830160" cy="652320"/>
            <a:chOff x="2901960" y="2813040"/>
            <a:chExt cx="830160" cy="652320"/>
          </a:xfrm>
        </p:grpSpPr>
        <p:sp>
          <p:nvSpPr>
            <p:cNvPr id="72" name=""/>
            <p:cNvSpPr/>
            <p:nvPr/>
          </p:nvSpPr>
          <p:spPr>
            <a:xfrm>
              <a:off x="2901960" y="2813040"/>
              <a:ext cx="830160" cy="652320"/>
            </a:xfrm>
            <a:prstGeom prst="roundRect">
              <a:avLst>
                <a:gd name="adj" fmla="val 241"/>
              </a:avLst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01960" y="2955960"/>
              <a:ext cx="830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911840" y="2797200"/>
            <a:ext cx="830160" cy="652320"/>
            <a:chOff x="4911840" y="2797200"/>
            <a:chExt cx="830160" cy="652320"/>
          </a:xfrm>
        </p:grpSpPr>
        <p:sp>
          <p:nvSpPr>
            <p:cNvPr id="75" name=""/>
            <p:cNvSpPr/>
            <p:nvPr/>
          </p:nvSpPr>
          <p:spPr>
            <a:xfrm>
              <a:off x="4911840" y="2797200"/>
              <a:ext cx="830160" cy="652320"/>
            </a:xfrm>
            <a:prstGeom prst="roundRect">
              <a:avLst>
                <a:gd name="adj" fmla="val 241"/>
              </a:avLst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11840" y="2940120"/>
              <a:ext cx="830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898800" y="2813040"/>
            <a:ext cx="830520" cy="652320"/>
            <a:chOff x="3898800" y="2813040"/>
            <a:chExt cx="830520" cy="652320"/>
          </a:xfrm>
        </p:grpSpPr>
        <p:sp>
          <p:nvSpPr>
            <p:cNvPr id="78" name=""/>
            <p:cNvSpPr/>
            <p:nvPr/>
          </p:nvSpPr>
          <p:spPr>
            <a:xfrm>
              <a:off x="3898800" y="2813040"/>
              <a:ext cx="830520" cy="652320"/>
            </a:xfrm>
            <a:prstGeom prst="roundRect">
              <a:avLst>
                <a:gd name="adj" fmla="val 241"/>
              </a:avLst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98800" y="2955960"/>
              <a:ext cx="830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900600" y="5477040"/>
            <a:ext cx="830160" cy="652320"/>
            <a:chOff x="3900600" y="5477040"/>
            <a:chExt cx="830160" cy="652320"/>
          </a:xfrm>
        </p:grpSpPr>
        <p:sp>
          <p:nvSpPr>
            <p:cNvPr id="81" name=""/>
            <p:cNvSpPr/>
            <p:nvPr/>
          </p:nvSpPr>
          <p:spPr>
            <a:xfrm>
              <a:off x="3900600" y="5477040"/>
              <a:ext cx="830160" cy="652320"/>
            </a:xfrm>
            <a:prstGeom prst="roundRect">
              <a:avLst>
                <a:gd name="adj" fmla="val 241"/>
              </a:avLst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00600" y="5619960"/>
              <a:ext cx="830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917800" y="5477040"/>
            <a:ext cx="830160" cy="652320"/>
            <a:chOff x="2917800" y="5477040"/>
            <a:chExt cx="830160" cy="652320"/>
          </a:xfrm>
        </p:grpSpPr>
        <p:sp>
          <p:nvSpPr>
            <p:cNvPr id="84" name=""/>
            <p:cNvSpPr/>
            <p:nvPr/>
          </p:nvSpPr>
          <p:spPr>
            <a:xfrm>
              <a:off x="2917800" y="5477040"/>
              <a:ext cx="830160" cy="652320"/>
            </a:xfrm>
            <a:prstGeom prst="roundRect">
              <a:avLst>
                <a:gd name="adj" fmla="val 241"/>
              </a:avLst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17800" y="5619960"/>
              <a:ext cx="830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161040" y="2813040"/>
            <a:ext cx="2676600" cy="622440"/>
            <a:chOff x="6161040" y="2813040"/>
            <a:chExt cx="2676600" cy="622440"/>
          </a:xfrm>
        </p:grpSpPr>
        <p:sp>
          <p:nvSpPr>
            <p:cNvPr id="87" name=""/>
            <p:cNvSpPr/>
            <p:nvPr/>
          </p:nvSpPr>
          <p:spPr>
            <a:xfrm>
              <a:off x="6161040" y="2813040"/>
              <a:ext cx="2676600" cy="622440"/>
            </a:xfrm>
            <a:prstGeom prst="roundRect">
              <a:avLst>
                <a:gd name="adj" fmla="val 25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61040" y="2941200"/>
              <a:ext cx="2676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.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759280" y="5491080"/>
            <a:ext cx="2676600" cy="622440"/>
            <a:chOff x="5759280" y="5491080"/>
            <a:chExt cx="2676600" cy="622440"/>
          </a:xfrm>
        </p:grpSpPr>
        <p:sp>
          <p:nvSpPr>
            <p:cNvPr id="90" name=""/>
            <p:cNvSpPr/>
            <p:nvPr/>
          </p:nvSpPr>
          <p:spPr>
            <a:xfrm>
              <a:off x="5759280" y="5491080"/>
              <a:ext cx="2676600" cy="622440"/>
            </a:xfrm>
            <a:prstGeom prst="roundRect">
              <a:avLst>
                <a:gd name="adj" fmla="val 25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59280" y="5619240"/>
              <a:ext cx="2676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.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156120" y="3465000"/>
            <a:ext cx="366120" cy="2016360"/>
            <a:chOff x="3156120" y="3465000"/>
            <a:chExt cx="366120" cy="2016360"/>
          </a:xfrm>
        </p:grpSpPr>
        <p:sp>
          <p:nvSpPr>
            <p:cNvPr id="93" name=""/>
            <p:cNvSpPr/>
            <p:nvPr/>
          </p:nvSpPr>
          <p:spPr>
            <a:xfrm flipV="1">
              <a:off x="3336840" y="3468240"/>
              <a:ext cx="12960" cy="20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2332800" y="4288320"/>
              <a:ext cx="201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eck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017960" y="3479760"/>
            <a:ext cx="400680" cy="1986840"/>
            <a:chOff x="4017960" y="3479760"/>
            <a:chExt cx="400680" cy="1986840"/>
          </a:xfrm>
        </p:grpSpPr>
        <p:sp>
          <p:nvSpPr>
            <p:cNvPr id="96" name=""/>
            <p:cNvSpPr/>
            <p:nvPr/>
          </p:nvSpPr>
          <p:spPr>
            <a:xfrm flipH="1">
              <a:off x="4196520" y="3479760"/>
              <a:ext cx="40320" cy="19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5460000">
              <a:off x="3231000" y="4293360"/>
              <a:ext cx="197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eck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303720" y="387360"/>
            <a:ext cx="4565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(CE)"/>
              </a:rPr>
              <a:t>Pool intern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14280" y="254160"/>
            <a:ext cx="1560600" cy="1159920"/>
            <a:chOff x="314280" y="254160"/>
            <a:chExt cx="1560600" cy="1159920"/>
          </a:xfrm>
        </p:grpSpPr>
        <p:sp>
          <p:nvSpPr>
            <p:cNvPr id="100" name=""/>
            <p:cNvSpPr/>
            <p:nvPr/>
          </p:nvSpPr>
          <p:spPr>
            <a:xfrm>
              <a:off x="314280" y="254160"/>
              <a:ext cx="1560600" cy="115992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" y="468000"/>
              <a:ext cx="15606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eneri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30240" y="1503360"/>
            <a:ext cx="682308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 to communicate with the Generic Poo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start method to initialize the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checkou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ethod to get an object from the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check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ethod to return an object to the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stop method to delete all objects and pool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dministrative methods (eg. get/set min/max size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eneric Pool is used b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e PooledConnection[1] 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e XAConnection[2] 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[1] javax.sql.Pooled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[2] javax.sql.XA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03720" y="387360"/>
            <a:ext cx="4565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(CE)"/>
              </a:rPr>
              <a:t>Main meth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14280" y="254160"/>
            <a:ext cx="1560600" cy="1159920"/>
            <a:chOff x="314280" y="254160"/>
            <a:chExt cx="1560600" cy="1159920"/>
          </a:xfrm>
        </p:grpSpPr>
        <p:sp>
          <p:nvSpPr>
            <p:cNvPr id="105" name=""/>
            <p:cNvSpPr/>
            <p:nvPr/>
          </p:nvSpPr>
          <p:spPr>
            <a:xfrm>
              <a:off x="314280" y="254160"/>
              <a:ext cx="1560600" cy="115992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280" y="468000"/>
              <a:ext cx="15606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eneri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4360" y="1592280"/>
            <a:ext cx="702936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ooledConnection Factory: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e Data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tandardPoolDataSource[1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object is able to build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PooledConne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store them into the p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 methods from DataSource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Connection[2] getConnecti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Connection getConnection(String user, String pass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PrintWriter[3] methods (setter/getter) for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imeOut methods (setter/get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[1] org.enhydra.jdbc.pool.StandardPoolData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[2] java.sql.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[3] java.io.PrintWr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1880" y="371520"/>
            <a:ext cx="1486080" cy="817200"/>
            <a:chOff x="461880" y="371520"/>
            <a:chExt cx="1486080" cy="817200"/>
          </a:xfrm>
        </p:grpSpPr>
        <p:sp>
          <p:nvSpPr>
            <p:cNvPr id="109" name=""/>
            <p:cNvSpPr/>
            <p:nvPr/>
          </p:nvSpPr>
          <p:spPr>
            <a:xfrm>
              <a:off x="461880" y="371520"/>
              <a:ext cx="1486080" cy="817200"/>
            </a:xfrm>
            <a:prstGeom prst="ellipse">
              <a:avLst/>
            </a:prstGeom>
            <a:solidFill>
              <a:srgbClr val="2323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1880" y="596880"/>
              <a:ext cx="1486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not-X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303720" y="387360"/>
            <a:ext cx="4565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(CE)"/>
              </a:rPr>
              <a:t>Datasour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2:27:59Z</dcterms:created>
  <dc:creator/>
  <dc:description/>
  <dc:language>en-US</dc:language>
  <cp:lastModifiedBy>Victor Hugo</cp:lastModifiedBy>
  <cp:lastPrinted>2003-06-30T13:38:53Z</cp:lastPrinted>
  <dcterms:modified xsi:type="dcterms:W3CDTF">2003-07-01T06:19:34Z</dcterms:modified>
  <cp:revision>23</cp:revision>
  <dc:subject/>
  <dc:title>Aucun titre de diapositive</dc:title>
</cp:coreProperties>
</file>